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627E-ADB4-469C-A6C7-2BA9D2B7D84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7F3A-B44A-4CA4-8F72-5457677420E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BEE-C1B6-4199-B167-F1D4C36D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BF6-6CD8-42EA-8BD3-13B2F5DC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F383-A98F-49C3-BA63-8A1B52BA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BD96-3958-4A3E-8ECF-03C880EE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337E-A833-4285-83DC-352416FE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F382-CF52-4036-AD49-8721A15E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974B-1F2C-472B-88F8-4DB04B34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E0DF-9483-4505-9DD0-CCD95039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C3F4-F498-48C1-9EA8-6425ED64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F2A5-8DA4-4243-93CD-D92BC3CA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E652-7878-4F0B-AE62-9243AC54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D749-360F-4F2D-B91A-4652BBBF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C743-0FF9-4CAB-9EAB-BCF7E1B5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65E3-C6CD-45C1-9DE8-AF91AC0B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297F-753E-4A7B-835A-170ECB24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F40F-B484-4079-9555-147DCAA5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7133-8FFE-442B-9047-86F5561B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9431-4B02-4FD8-9158-C03BBD0E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826C-699E-442B-A0B3-2433C1DB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4CF5-41AC-4425-8293-B4FAEBAF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DBB-1971-49AB-919D-218A06AB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A43-4435-4C7E-B275-01C3EEE1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507-293A-4E17-8EA2-6C4A8173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A5D2-44AD-4EC1-BD08-647214FC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A6D5-CBED-44EF-A589-FCCE313C4EC8}" type="slidenum">
              <a:rPr b="0" lang="pl-PL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Dowolny kształt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Dowolny kształt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Dowolny kształ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ze ściętym i zaokrąglonym rogiem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rójkąt prostokątny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owolny kształt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owolny kształt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5F61-4BF9-46F2-A1AF-598C2211B972}" type="slidenum">
              <a:rPr b="0" lang="pl-PL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ole tekstowe 1" descr=""/>
          <p:cNvPicPr/>
          <p:nvPr/>
        </p:nvPicPr>
        <p:blipFill>
          <a:blip r:embed="rId1"/>
          <a:stretch/>
        </p:blipFill>
        <p:spPr>
          <a:xfrm>
            <a:off x="334800" y="895320"/>
            <a:ext cx="8332920" cy="4687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s://encrypted-tbn1.gstatic.com/images?q=tbn:ANd9GcSVRYlmgnr1d05-Gim7rK21-oSzp-4zFq1FglqTpu3XhFOhW6CGVw"/>
          <p:cNvPicPr/>
          <p:nvPr/>
        </p:nvPicPr>
        <p:blipFill>
          <a:blip r:embed="rId2"/>
          <a:stretch/>
        </p:blipFill>
        <p:spPr>
          <a:xfrm>
            <a:off x="4200480" y="3840120"/>
            <a:ext cx="367524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upload.wikimedia.org/wikipedia/commons/thumb/3/38/Bisection.svg/250px-Bisection.svg.png"/>
          <p:cNvPicPr/>
          <p:nvPr/>
        </p:nvPicPr>
        <p:blipFill>
          <a:blip r:embed="rId1"/>
          <a:stretch/>
        </p:blipFill>
        <p:spPr>
          <a:xfrm>
            <a:off x="1571760" y="3286080"/>
            <a:ext cx="5398920" cy="3110040"/>
          </a:xfrm>
          <a:prstGeom prst="rect">
            <a:avLst/>
          </a:prstGeom>
          <a:ln w="0">
            <a:noFill/>
          </a:ln>
        </p:spPr>
      </p:pic>
      <p:sp>
        <p:nvSpPr>
          <p:cNvPr id="105" name="Prostokąt 4"/>
          <p:cNvSpPr/>
          <p:nvPr/>
        </p:nvSpPr>
        <p:spPr>
          <a:xfrm>
            <a:off x="285840" y="714240"/>
            <a:ext cx="8358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wusieczna kąta, to półprosta 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oczątku w wierzchołku kąta, która dzieli ten kąt na dwa kąty przystają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2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2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1447920" y="1219320"/>
            <a:ext cx="3961440" cy="4086720"/>
            <a:chOff x="1447920" y="1219320"/>
            <a:chExt cx="3961440" cy="4086720"/>
          </a:xfrm>
        </p:grpSpPr>
        <p:sp>
          <p:nvSpPr>
            <p:cNvPr id="107" name="Freeform 3"/>
            <p:cNvSpPr/>
            <p:nvPr/>
          </p:nvSpPr>
          <p:spPr>
            <a:xfrm>
              <a:off x="1890720" y="1683000"/>
              <a:ext cx="3505320" cy="320040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3200400"/>
                <a:gd name="textAreaBottom" fmla="*/ 3200760 h 3200400"/>
              </a:gdLst>
              <a:ahLst/>
              <a:rect l="textAreaLeft" t="textAreaTop" r="textAreaRight" b="textAreaBottom"/>
              <a:pathLst>
                <a:path w="2208" h="2016">
                  <a:moveTo>
                    <a:pt x="0" y="1392"/>
                  </a:moveTo>
                  <a:lnTo>
                    <a:pt x="2208" y="0"/>
                  </a:lnTo>
                  <a:lnTo>
                    <a:pt x="2160" y="2016"/>
                  </a:lnTo>
                  <a:lnTo>
                    <a:pt x="0" y="1392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1447920" y="1219320"/>
              <a:ext cx="3961440" cy="4086720"/>
              <a:chOff x="1447920" y="1219320"/>
              <a:chExt cx="3961440" cy="4086720"/>
            </a:xfrm>
          </p:grpSpPr>
          <p:grpSp>
            <p:nvGrpSpPr>
              <p:cNvPr id="109" name="Group 5"/>
              <p:cNvGrpSpPr/>
              <p:nvPr/>
            </p:nvGrpSpPr>
            <p:grpSpPr>
              <a:xfrm>
                <a:off x="1828800" y="1676520"/>
                <a:ext cx="3580560" cy="3195360"/>
                <a:chOff x="1828800" y="1676520"/>
                <a:chExt cx="3580560" cy="3195360"/>
              </a:xfrm>
            </p:grpSpPr>
            <p:grpSp>
              <p:nvGrpSpPr>
                <p:cNvPr id="110" name="Group 6"/>
                <p:cNvGrpSpPr/>
                <p:nvPr/>
              </p:nvGrpSpPr>
              <p:grpSpPr>
                <a:xfrm>
                  <a:off x="1904400" y="1676520"/>
                  <a:ext cx="3504960" cy="3195360"/>
                  <a:chOff x="1904400" y="1676520"/>
                  <a:chExt cx="3504960" cy="3195360"/>
                </a:xfrm>
              </p:grpSpPr>
              <p:sp>
                <p:nvSpPr>
                  <p:cNvPr id="111" name="Line 7"/>
                  <p:cNvSpPr/>
                  <p:nvPr/>
                </p:nvSpPr>
                <p:spPr>
                  <a:xfrm flipV="1">
                    <a:off x="1904400" y="1676520"/>
                    <a:ext cx="3504960" cy="2208240"/>
                  </a:xfrm>
                  <a:prstGeom prst="line">
                    <a:avLst/>
                  </a:prstGeom>
                  <a:ln w="381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8"/>
                  <p:cNvSpPr/>
                  <p:nvPr/>
                </p:nvSpPr>
                <p:spPr>
                  <a:xfrm>
                    <a:off x="1904400" y="3884760"/>
                    <a:ext cx="3375000" cy="987120"/>
                  </a:xfrm>
                  <a:prstGeom prst="line">
                    <a:avLst/>
                  </a:prstGeom>
                  <a:ln w="38160">
                    <a:solidFill>
                      <a:srgbClr val="00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" name="Oval 9"/>
                <p:cNvSpPr/>
                <p:nvPr/>
              </p:nvSpPr>
              <p:spPr>
                <a:xfrm>
                  <a:off x="4952520" y="1828800"/>
                  <a:ext cx="151920" cy="15264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Oval 10"/>
                <p:cNvSpPr/>
                <p:nvPr/>
              </p:nvSpPr>
              <p:spPr>
                <a:xfrm>
                  <a:off x="1828800" y="3810240"/>
                  <a:ext cx="151920" cy="15228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Oval 11"/>
                <p:cNvSpPr/>
                <p:nvPr/>
              </p:nvSpPr>
              <p:spPr>
                <a:xfrm>
                  <a:off x="4419000" y="4572000"/>
                  <a:ext cx="152280" cy="152640"/>
                </a:xfrm>
                <a:prstGeom prst="ellipse">
                  <a:avLst/>
                </a:prstGeom>
                <a:solidFill>
                  <a:srgbClr val="00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" name="Text Box 12"/>
              <p:cNvSpPr/>
              <p:nvPr/>
            </p:nvSpPr>
            <p:spPr>
              <a:xfrm>
                <a:off x="1447920" y="35816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13"/>
              <p:cNvSpPr/>
              <p:nvPr/>
            </p:nvSpPr>
            <p:spPr>
              <a:xfrm>
                <a:off x="4876560" y="12193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14"/>
              <p:cNvSpPr/>
              <p:nvPr/>
            </p:nvSpPr>
            <p:spPr>
              <a:xfrm>
                <a:off x="4267080" y="4724640"/>
                <a:ext cx="380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3200" spc="-1" strike="noStrike">
                    <a:solidFill>
                      <a:srgbClr val="003399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Oval 15"/>
          <p:cNvSpPr/>
          <p:nvPr/>
        </p:nvSpPr>
        <p:spPr>
          <a:xfrm>
            <a:off x="152280" y="2057400"/>
            <a:ext cx="3581640" cy="3581280"/>
          </a:xfrm>
          <a:prstGeom prst="ellipse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6"/>
          <p:cNvGrpSpPr/>
          <p:nvPr/>
        </p:nvGrpSpPr>
        <p:grpSpPr>
          <a:xfrm>
            <a:off x="3200400" y="2286000"/>
            <a:ext cx="1011240" cy="2858760"/>
            <a:chOff x="3200400" y="2286000"/>
            <a:chExt cx="1011240" cy="2858760"/>
          </a:xfrm>
        </p:grpSpPr>
        <p:sp>
          <p:nvSpPr>
            <p:cNvPr id="121" name="Oval 17"/>
            <p:cNvSpPr/>
            <p:nvPr/>
          </p:nvSpPr>
          <p:spPr>
            <a:xfrm>
              <a:off x="3352680" y="2819520"/>
              <a:ext cx="152280" cy="152280"/>
            </a:xfrm>
            <a:prstGeom prst="ellipse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8"/>
            <p:cNvSpPr/>
            <p:nvPr/>
          </p:nvSpPr>
          <p:spPr>
            <a:xfrm>
              <a:off x="3581280" y="4343400"/>
              <a:ext cx="152280" cy="152640"/>
            </a:xfrm>
            <a:prstGeom prst="ellipse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200400" y="2286000"/>
              <a:ext cx="6508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B</a:t>
              </a:r>
              <a:r>
                <a:rPr b="1" lang="pl-PL" sz="3200" spc="-1" strike="noStrike" baseline="-25000">
                  <a:solidFill>
                    <a:srgbClr val="008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3429000" y="4496040"/>
              <a:ext cx="782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32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A</a:t>
              </a:r>
              <a:r>
                <a:rPr b="1" lang="pl-PL" sz="3200" spc="-1" strike="noStrike" baseline="-25000">
                  <a:solidFill>
                    <a:srgbClr val="008000"/>
                  </a:solidFill>
                  <a:latin typeface="Times New Roman"/>
                  <a:ea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21"/>
          <p:cNvSpPr/>
          <p:nvPr/>
        </p:nvSpPr>
        <p:spPr>
          <a:xfrm>
            <a:off x="1600200" y="1066680"/>
            <a:ext cx="3651120" cy="3651480"/>
          </a:xfrm>
          <a:prstGeom prst="ellips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2"/>
          <p:cNvSpPr/>
          <p:nvPr/>
        </p:nvSpPr>
        <p:spPr>
          <a:xfrm>
            <a:off x="1828800" y="2590920"/>
            <a:ext cx="3651120" cy="3651120"/>
          </a:xfrm>
          <a:prstGeom prst="ellipse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0000"/>
                </a:solidFill>
                <a:latin typeface="Times New Roman"/>
              </a:rPr>
              <a:t>Konstrukcja dwusiecznej ką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5867280" y="7621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3300"/>
                </a:solidFill>
                <a:latin typeface="Times New Roman"/>
              </a:rPr>
              <a:t>Opis konstruk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5791320" y="1071720"/>
            <a:ext cx="33526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1. Dany jest kąt A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2. Zakreślamy okrąg o środku S  i dowolnym promien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. Otrzymujemy punkty A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i B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przecięcia tego okręgu z ramionami ką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4. Konstruujemy symetralną odcinka A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 </a:t>
            </a: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B</a:t>
            </a:r>
            <a:r>
              <a:rPr b="1" lang="pl-PL" sz="2000" spc="-1" strike="noStrike" baseline="-25000">
                <a:solidFill>
                  <a:srgbClr val="0066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l-PL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5. Część wspólna tej symetralnej i kąta ASB jest poszukiwaną dwusieczn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Łącznik prosty 31"/>
          <p:cNvSpPr/>
          <p:nvPr/>
        </p:nvSpPr>
        <p:spPr>
          <a:xfrm flipV="1">
            <a:off x="214200" y="3214440"/>
            <a:ext cx="5857920" cy="928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Łącznik prosty 33"/>
          <p:cNvSpPr/>
          <p:nvPr/>
        </p:nvSpPr>
        <p:spPr>
          <a:xfrm>
            <a:off x="3428280" y="2971800"/>
            <a:ext cx="228600" cy="1371600"/>
          </a:xfrm>
          <a:prstGeom prst="line">
            <a:avLst/>
          </a:prstGeom>
          <a:ln w="42480">
            <a:solidFill>
              <a:srgbClr val="60b5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rostokąt 1"/>
          <p:cNvSpPr/>
          <p:nvPr/>
        </p:nvSpPr>
        <p:spPr>
          <a:xfrm>
            <a:off x="357120" y="50004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żdy punkt dwusiecznej kąta jest jednakowo oddalony od ramion tego ką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www.interklasa.pl/portal/dokumenty/geom6/geometria6/prezentacja/obrazki/ka10.gif"/>
          <p:cNvPicPr/>
          <p:nvPr/>
        </p:nvPicPr>
        <p:blipFill>
          <a:blip r:embed="rId1"/>
          <a:stretch/>
        </p:blipFill>
        <p:spPr>
          <a:xfrm>
            <a:off x="500040" y="2359080"/>
            <a:ext cx="7680240" cy="34257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3"/>
          <p:cNvSpPr/>
          <p:nvPr/>
        </p:nvSpPr>
        <p:spPr>
          <a:xfrm>
            <a:off x="714240" y="58579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CE| = |CD|, |FH| = |FG|, |KM| = |KL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rostokąt 1"/>
          <p:cNvSpPr/>
          <p:nvPr/>
        </p:nvSpPr>
        <p:spPr>
          <a:xfrm>
            <a:off x="357120" y="100008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adani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en z kątów trójkąta prostokątnego ma miarę 70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wusieczna tego kąta dzieli trójkąt na dwa trójkąty. Oblicz miary kątów tych trójkąt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rostokąt 2"/>
          <p:cNvSpPr/>
          <p:nvPr/>
        </p:nvSpPr>
        <p:spPr>
          <a:xfrm>
            <a:off x="357120" y="2214720"/>
            <a:ext cx="650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wiązanie: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ójkąt prostokątny podany w zadani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://dajspisac.pl/sites/default/files/dajs40.jpg"/>
          <p:cNvPicPr/>
          <p:nvPr/>
        </p:nvPicPr>
        <p:blipFill>
          <a:blip r:embed="rId1"/>
          <a:stretch/>
        </p:blipFill>
        <p:spPr>
          <a:xfrm>
            <a:off x="500040" y="2928960"/>
            <a:ext cx="5643720" cy="2533680"/>
          </a:xfrm>
          <a:prstGeom prst="rect">
            <a:avLst/>
          </a:prstGeom>
          <a:ln w="0">
            <a:noFill/>
          </a:ln>
        </p:spPr>
      </p:pic>
      <p:sp>
        <p:nvSpPr>
          <p:cNvPr id="138" name="Prostokąt 4"/>
          <p:cNvSpPr/>
          <p:nvPr/>
        </p:nvSpPr>
        <p:spPr>
          <a:xfrm>
            <a:off x="85716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=9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=7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=20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dajspisac.pl/sites/default/files/dajs41.jpg"/>
          <p:cNvPicPr/>
          <p:nvPr/>
        </p:nvPicPr>
        <p:blipFill>
          <a:blip r:embed="rId1"/>
          <a:stretch/>
        </p:blipFill>
        <p:spPr>
          <a:xfrm>
            <a:off x="2357280" y="785880"/>
            <a:ext cx="5322960" cy="2450880"/>
          </a:xfrm>
          <a:prstGeom prst="rect">
            <a:avLst/>
          </a:prstGeom>
          <a:ln w="0">
            <a:noFill/>
          </a:ln>
        </p:spPr>
      </p:pic>
      <p:sp>
        <p:nvSpPr>
          <p:cNvPr id="140" name="Prostokąt 2"/>
          <p:cNvSpPr/>
          <p:nvPr/>
        </p:nvSpPr>
        <p:spPr>
          <a:xfrm>
            <a:off x="214200" y="2928960"/>
            <a:ext cx="7858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 - dwusieczna ką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ymy miary kątów trójkąta AB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=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=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½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α=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ry kątów trójkąta ABD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5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zymy miary kątów trójkąta AD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=2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½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=18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25</a:t>
            </a:r>
            <a:r>
              <a:rPr b="0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ry kątów trójkąta AD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5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2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7T06:42:16Z</dcterms:created>
  <dc:creator>zdzisiek</dc:creator>
  <dc:description/>
  <dc:language>en-US</dc:language>
  <cp:lastModifiedBy>Ania</cp:lastModifiedBy>
  <dcterms:modified xsi:type="dcterms:W3CDTF">2013-07-10T06:21:37Z</dcterms:modified>
  <cp:revision>15</cp:revision>
  <dc:subject/>
  <dc:title>Slajd 1</dc:title>
</cp:coreProperties>
</file>